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E8F-D877-423A-AB4E-5C2A3440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FF2-F748-4780-A263-9661E4C8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D35-6C0F-4F33-A33C-AE093D88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D14-D63B-4700-A333-73C975DD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52C-53AC-4B76-A03C-C14C0EAC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149-6DEE-402A-BD6C-A151A326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12F-5EB5-4067-AD30-8374911C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E1D-40A7-42C0-8968-055FC34B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421-457F-4927-A3AD-025E411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573-50C6-4E51-A8F7-5B3249BA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6C8-DDAF-4811-817D-4F44E4C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4B8-75EC-4E23-8460-DDD8CF2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46CD-2335-4456-AC96-8AC1C04BC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Диалект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791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ловаре В.И.Даля около 200000 диалектных слов. Он их собирал пол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H00546_"/>
          <p:cNvPicPr/>
          <p:nvPr/>
        </p:nvPicPr>
        <p:blipFill>
          <a:blip r:embed="rId1"/>
          <a:stretch/>
        </p:blipFill>
        <p:spPr>
          <a:xfrm>
            <a:off x="6602400" y="4343400"/>
            <a:ext cx="216072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1353" t="0" r="1353" b="1486"/>
          <a:stretch/>
        </p:blipFill>
        <p:spPr>
          <a:xfrm>
            <a:off x="380880" y="1676520"/>
            <a:ext cx="5486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ди́мир Ива́нович Даль (1801 —1872) — русский учёный и писател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4191120" y="1447920"/>
            <a:ext cx="441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оставил перед собой цель собрать и записать все русские слова. Прославился как автор «Толкового словаря живого великорусского языка». «Толковый словарь» — главное детище Даля, труд,  по которому его знает всякий, кто интересуется русским языком. Это настоящий подвиг человека, влюблённого в русский язы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дни и те же предметы в диалектах и в литературном языке нередко называются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09480" y="1397160"/>
          <a:ext cx="8001000" cy="51559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орусское 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орусское 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ч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тар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ш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 слово является диалектиз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457200" y="1219320"/>
            <a:ext cx="38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уп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мбл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горь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4495680" y="129528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о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цвет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метьте в тексте диалектн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304920" y="158256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ро на пряслинской усадьбе начиналось с птичьего гомона. Едва только из-за реки брызнут первые лучи солнца, как вся пернатая мелюзга, прижившаяся возле нового дома на угоре, принималась славить жизнь. На все голоса, на все лады. (Ф.Абрам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ю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диалектизмы. По контексту определите значе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380880" y="1676520"/>
            <a:ext cx="82296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к, как мышь, подбежал и взмахнул в небо огромным хвостом (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уха взяла рогач, достала посудину, отлила в ковш кипятку. (Приш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обеда стало разведриваться, и мы повеселели (Со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 прогалинах кустов, где мы в ночном бывали, огнища наши от костров позаросли едва ли. (Т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я лежали поперек ручья, образуя лавы разной высоты, а высохшие ветки деревьев то касались воды, то повисали в воздухе, не доставая дна буерака. (Со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ли без дорог, перебирались через сухие болота – мшары, где нога тонула по колено в коричневых мхах. (Пауст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диалектизмы. По контексту определит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685800" y="1582560"/>
            <a:ext cx="769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ям дай воды по корцу и езжай опять дальше. (Ку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ливе стоял глухой морок, шуршала и тревожно гудела только где-то земля.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уха стала варить нардек – густой, черный арбузный мед. (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базам мычали не наевшиеся молодой зеленки коровы. (Ш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трам, просыпаясь и прислушиваясь к тишине, Александр Антонович знал, что нынче зацветет ярица или наливается рожь. (Ф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 Коля сразу два письма: от маминой мамы с севера и от папиной – с юга. Обе бабушки в гости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BL15827"/>
          <p:cNvPicPr/>
          <p:nvPr/>
        </p:nvPicPr>
        <p:blipFill>
          <a:blip r:embed="rId1"/>
          <a:srcRect l="0" t="0" r="0" b="9055"/>
          <a:stretch/>
        </p:blipFill>
        <p:spPr>
          <a:xfrm>
            <a:off x="457200" y="2133720"/>
            <a:ext cx="2771640" cy="252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BL20927"/>
          <p:cNvPicPr/>
          <p:nvPr/>
        </p:nvPicPr>
        <p:blipFill>
          <a:blip r:embed="rId2"/>
          <a:srcRect l="0" t="0" r="0" b="2756"/>
          <a:stretch/>
        </p:blipFill>
        <p:spPr>
          <a:xfrm>
            <a:off x="6019920" y="3881520"/>
            <a:ext cx="2590560" cy="251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505320" y="220968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избе у нас места всем хвати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819520" y="54100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ата у нас просторна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ENVLOPE"/>
          <p:cNvPicPr/>
          <p:nvPr/>
        </p:nvPicPr>
        <p:blipFill>
          <a:blip r:embed="rId3"/>
          <a:stretch/>
        </p:blipFill>
        <p:spPr>
          <a:xfrm>
            <a:off x="411480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ENVLOPE"/>
          <p:cNvPicPr/>
          <p:nvPr/>
        </p:nvPicPr>
        <p:blipFill>
          <a:blip r:embed="rId4"/>
          <a:stretch/>
        </p:blipFill>
        <p:spPr>
          <a:xfrm>
            <a:off x="914400" y="5334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NA01064_"/>
          <p:cNvPicPr/>
          <p:nvPr/>
        </p:nvPicPr>
        <p:blipFill>
          <a:blip r:embed="rId1"/>
          <a:stretch/>
        </p:blipFill>
        <p:spPr>
          <a:xfrm>
            <a:off x="4495680" y="1143000"/>
            <a:ext cx="4257720" cy="4573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533520" y="152388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 речке узенькая тропинка ведё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09480" y="42670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обежишь до речки по стеж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ENVLOPE"/>
          <p:cNvPicPr/>
          <p:nvPr/>
        </p:nvPicPr>
        <p:blipFill>
          <a:blip r:embed="rId2"/>
          <a:stretch/>
        </p:blipFill>
        <p:spPr>
          <a:xfrm>
            <a:off x="1676520" y="3048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01154_"/>
          <p:cNvPicPr/>
          <p:nvPr/>
        </p:nvPicPr>
        <p:blipFill>
          <a:blip r:embed="rId1"/>
          <a:stretch/>
        </p:blipFill>
        <p:spPr>
          <a:xfrm>
            <a:off x="228600" y="692280"/>
            <a:ext cx="2855880" cy="27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IRD45"/>
          <p:cNvPicPr/>
          <p:nvPr/>
        </p:nvPicPr>
        <p:blipFill>
          <a:blip r:embed="rId2"/>
          <a:stretch/>
        </p:blipFill>
        <p:spPr>
          <a:xfrm>
            <a:off x="5867280" y="35053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4114800" y="10666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тром рано пету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бя разбуд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2120" y="4800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 утрам станет коче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бя буди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ENVLOPE"/>
          <p:cNvPicPr/>
          <p:nvPr/>
        </p:nvPicPr>
        <p:blipFill>
          <a:blip r:embed="rId3"/>
          <a:stretch/>
        </p:blipFill>
        <p:spPr>
          <a:xfrm>
            <a:off x="3581280" y="3200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то так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ч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- подумал Коля. – Поеду уж лучше на севе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3520" y="1600200"/>
            <a:ext cx="80769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пока он собирался, обе бабушки приехали в гости к ним. Послушали бы вы их разгов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обе они говорили по-русски, но иногда не понимали друг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то же за дерево такое – ве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у у нас так назы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у нас её зовут л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57913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нь был ведренный,- рассказывает бабушка с севе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UN_HEAT"/>
          <p:cNvPicPr/>
          <p:nvPr/>
        </p:nvPicPr>
        <p:blipFill>
          <a:blip r:embed="rId1"/>
          <a:stretch/>
        </p:blipFill>
        <p:spPr>
          <a:xfrm>
            <a:off x="6014880" y="167148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IT01~66"/>
          <p:cNvPicPr/>
          <p:nvPr/>
        </p:nvPicPr>
        <p:blipFill>
          <a:blip r:embed="rId2"/>
          <a:stretch/>
        </p:blipFill>
        <p:spPr>
          <a:xfrm>
            <a:off x="909720" y="365760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962520" y="48769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Хороший, значит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0536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чет наш красавец, только вот задира, забия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т-то Коля не выдержал и спросил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 кто такой коч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рассмеялис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а это же пету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BIRD45"/>
          <p:cNvPicPr/>
          <p:nvPr/>
        </p:nvPicPr>
        <p:blipFill>
          <a:blip r:embed="rId1"/>
          <a:stretch/>
        </p:blipFill>
        <p:spPr>
          <a:xfrm>
            <a:off x="5638680" y="33526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чему же так по-разному говорят баб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195120" y="1143000"/>
            <a:ext cx="7653600" cy="548640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70" name="Rectangle 2"/>
          <p:cNvSpPr/>
          <p:nvPr/>
        </p:nvSpPr>
        <p:spPr>
          <a:xfrm>
            <a:off x="3962520" y="1295280"/>
            <a:ext cx="4952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1676520"/>
            <a:ext cx="3962520" cy="495288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72" name="Rectangle 2"/>
          <p:cNvSpPr/>
          <p:nvPr/>
        </p:nvSpPr>
        <p:spPr>
          <a:xfrm>
            <a:off x="5335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14800" y="1447920"/>
            <a:ext cx="495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орусские диалекты (или севернорусское нареч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норусские диалекты (или южнорусское нареч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русские диалекты (или среднерусские гово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33520" y="0"/>
            <a:ext cx="8534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сту употребления в русском языке различают три основные группы диал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2-06T07:54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